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8.wmf" ContentType="image/x-wmf"/>
  <Override PartName="/ppt/media/image9.png" ContentType="image/png"/>
  <Override PartName="/ppt/media/image13.wmf" ContentType="image/x-wmf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F52D-D155-487C-BC37-F00B0DE34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7841-842B-4329-98EE-F047F2220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EF01-A4FC-4B51-9D4C-5FDF96E52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E91C-4095-40EF-B96F-168590C66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07B9-9B03-40D8-9AF5-144F38C35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0840-C192-43DC-96E4-BA2B712D7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6344-6997-48B0-BC78-A03EB6953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D0BB-6709-4112-B45F-F93EBE4EA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FA53-5205-4F6A-8E9A-C8F01D3FB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8BC2-00E1-4D63-979F-BEDF9CB6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547D-9C74-452A-A101-346E64D9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4355-BC81-4AAA-822C-449B24C5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59210-D447-4A99-A73F-038815DE9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h w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ing with nonstandard units with a twist of standard measurement conceptualiz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arie Maywo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84872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hw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teacher will give you an inchwor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ch long piece of green pipe clean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your inchworm to measure items in the class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 your inchworm at the beginning of the thing you are measu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out how many inchworms long items a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each how to mark a spot to find out where to place the worm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your work sheet or drawing paper to record your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2286000"/>
            <a:ext cx="1066680" cy="2286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 rot="631800">
            <a:off x="7696080" y="0"/>
            <a:ext cx="1447920" cy="1874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848720" y="5562720"/>
            <a:ext cx="1131840" cy="1028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 rot="20680200">
            <a:off x="304560" y="228600"/>
            <a:ext cx="931680" cy="1187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4191120" y="56386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0" y="57913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 rot="629400">
            <a:off x="2209680" y="228600"/>
            <a:ext cx="762120" cy="609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6324480" y="0"/>
            <a:ext cx="88596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hworm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 a penc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 rot="18238800">
            <a:off x="1676160" y="914040"/>
            <a:ext cx="5403960" cy="54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hworm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 a penc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your inchworm at the beginning of your penc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 rot="18238800">
            <a:off x="1828800" y="2133360"/>
            <a:ext cx="5403600" cy="54039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447920" y="4343400"/>
            <a:ext cx="1218960" cy="1522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hworm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 a penc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your inchworm at the beginning of your penc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your spot with your fi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 rot="18238800">
            <a:off x="1828800" y="2133360"/>
            <a:ext cx="5403600" cy="5403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447920" y="4343400"/>
            <a:ext cx="1218960" cy="1522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rcRect l="32344" t="0" r="0" b="0"/>
          <a:stretch/>
        </p:blipFill>
        <p:spPr>
          <a:xfrm>
            <a:off x="2133720" y="4495680"/>
            <a:ext cx="1339560" cy="1981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447920" y="37339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w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hworm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 a penc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 your inchworm at the beginning of your penc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 your spot with your fi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 your worm to the beginning of the spot your finger is mar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this again until you know how many worms would fill the penc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 rot="18238800">
            <a:off x="1752480" y="3276360"/>
            <a:ext cx="5403600" cy="54039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514600" y="5486400"/>
            <a:ext cx="1219320" cy="1522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rcRect l="32344" t="0" r="0" b="0"/>
          <a:stretch/>
        </p:blipFill>
        <p:spPr>
          <a:xfrm>
            <a:off x="2133720" y="5638680"/>
            <a:ext cx="1339560" cy="1981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219320" y="52578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w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14600" y="51055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 w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5257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33920" y="525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y this game some mor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 it with friend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 it at h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someone else how to do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 flipH="1" rot="181800">
            <a:off x="5028480" y="1294920"/>
            <a:ext cx="2895480" cy="1947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 rot="20943600">
            <a:off x="3962160" y="3123720"/>
            <a:ext cx="2027160" cy="13510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 rot="20664000">
            <a:off x="6934320" y="4647960"/>
            <a:ext cx="188280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14:54:01Z</dcterms:created>
  <dc:creator> </dc:creator>
  <dc:description/>
  <dc:language>en-US</dc:language>
  <cp:lastModifiedBy> </cp:lastModifiedBy>
  <dcterms:modified xsi:type="dcterms:W3CDTF">2008-04-23T16:16:24Z</dcterms:modified>
  <cp:revision>9</cp:revision>
  <dc:subject/>
  <dc:title>Inch worms</dc:title>
</cp:coreProperties>
</file>